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0A0-CAA5-4365-A993-120F8F8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4AD-A0DE-43F3-A5A6-ED95503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87E-16DF-4551-84A6-992708A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BD8-90A3-4E1B-9AA9-BB644EDF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320A-BF9E-4B66-A4CE-B708FC98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122-5FEC-4573-9428-C5B935A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ED0-ACEA-4660-B115-64F37AB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67E-39CD-4731-8B39-DD90FBC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8E4-0811-49B5-A108-B43B727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D31-325C-4365-B324-26A21996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033-9C79-41EC-9E0B-9864851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96A-6EE9-46ED-8450-3C2EE8FB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05C8-85B4-47B3-A4B9-1340661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A6A7-EC31-4D36-9540-55FB970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AFFA-880D-4D77-AD50-E4509DA2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B736-34A6-4F8A-A4D6-E818888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800-029A-4DB0-A73E-A37207D9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055-B2B1-40CB-B184-6DB557A7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F4B-888B-4FBC-8B84-14DA251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911-1463-4D9A-9EBA-AFE5751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1C4-5EED-4F49-A920-C5CC214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CD1-435B-4B59-A16F-841A041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D69-42D0-4E78-8C6B-A00BCEB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74C-7667-4D3A-B4A3-C40158E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F9DD-BBAF-4F0B-AA7C-5C3E4AA22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FD09-CC59-401A-B228-6B29BAC5E1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4000"/>
          </a:blip>
          <a:srcRect l="28014" t="0" r="25299" b="5558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45720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 </a:t>
            </a: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上的小白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934320" cy="4683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04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拼一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523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qún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5146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ū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2767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t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ū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114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x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419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xū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49528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y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一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2" t="0" r="9437" b="0"/>
          <a:stretch/>
        </p:blipFill>
        <p:spPr>
          <a:xfrm>
            <a:off x="6858000" y="1600200"/>
            <a:ext cx="1981080" cy="183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70000" cy="1563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8080" cy="1528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962360" cy="148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57600" y="1752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ún  c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ún  t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657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ūn  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uán  x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一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9372" t="0" r="9437" b="0"/>
          <a:stretch/>
        </p:blipFill>
        <p:spPr>
          <a:xfrm>
            <a:off x="6858000" y="1600200"/>
            <a:ext cx="1981080" cy="183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70000" cy="1563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8080" cy="152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962360" cy="148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657600" y="1752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lún  c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743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ún  t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657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PY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jūn  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Y"/>
              </a:rPr>
              <a:t>yuán  x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66520" y="205740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409720" y="3047760"/>
            <a:ext cx="129564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62720" y="2666880"/>
            <a:ext cx="1218960" cy="121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600" y="4876920"/>
            <a:ext cx="129528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50000">
              <a:srgbClr val="ddebc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304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读句子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83552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草原上，姐姐赶着一群  小白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048120"/>
            <a:ext cx="8610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家乡是个美丽的地方，那里有清清的河水，肥肥的牛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9998" r="107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099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286000" cy="2400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2286000" cy="2400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2760" y="83664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321300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252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2362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群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62864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ú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421000"/>
            <a:ext cx="47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84360" y="1557360"/>
            <a:ext cx="439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一群小白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的蹲着有的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白羊啊下来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别在天上着了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河水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草儿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才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你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2720" y="620640"/>
            <a:ext cx="51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 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天上的小白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55760" y="419040"/>
            <a:ext cx="570096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才     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33360"/>
            <a:ext cx="17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á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27560" y="419040"/>
            <a:ext cx="183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sh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19520"/>
            <a:ext cx="1981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429000"/>
            <a:ext cx="678024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故乡 家乡 梦乡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乡村 老乡 乡间小路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1773360"/>
            <a:ext cx="83343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一群小白羊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的蹲着有的躺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2360" y="836640"/>
            <a:ext cx="602604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白羊啊下来吧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别在天上着了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河水清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草儿肥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上才是你家乡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752480" y="0"/>
            <a:ext cx="6705720" cy="6401880"/>
            <a:chOff x="1752480" y="0"/>
            <a:chExt cx="6705720" cy="6401880"/>
          </a:xfrm>
        </p:grpSpPr>
        <p:sp>
          <p:nvSpPr>
            <p:cNvPr id="107" name=""/>
            <p:cNvSpPr/>
            <p:nvPr/>
          </p:nvSpPr>
          <p:spPr>
            <a:xfrm>
              <a:off x="1752480" y="0"/>
              <a:ext cx="670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2 </a:t>
              </a:r>
              <a:r>
                <a:rPr b="1" lang="zh-CN" sz="5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天上一群小白羊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990720"/>
              <a:ext cx="4495680" cy="54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上一群小白羊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有的蹲着有的躺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白羊啊下来吧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别在天上着了凉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河水清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草儿肥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地上才是你家乡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2695680" cy="183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590920"/>
            <a:ext cx="30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ü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228600"/>
            <a:ext cx="2689200" cy="2530440"/>
            <a:chOff x="1371600" y="228600"/>
            <a:chExt cx="2689200" cy="25304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666880" y="838080"/>
              <a:ext cx="139392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969" r="53364" b="0"/>
            <a:stretch/>
          </p:blipFill>
          <p:spPr>
            <a:xfrm>
              <a:off x="1371600" y="380880"/>
              <a:ext cx="533520" cy="19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rcRect l="66315" t="7075" r="0" b="14596"/>
            <a:stretch/>
          </p:blipFill>
          <p:spPr>
            <a:xfrm>
              <a:off x="1981080" y="228600"/>
              <a:ext cx="631800" cy="25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971640" y="4221000"/>
            <a:ext cx="78483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ùn    ūn    ǔn   ún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ǚn   ǘn   ǖn </a:t>
            </a:r>
            <a:r>
              <a:rPr b="1" lang="en-US" sz="6000" spc="-1" strike="noStrike">
                <a:solidFill>
                  <a:srgbClr val="0000ff"/>
                </a:solidFill>
                <a:latin typeface="HPY1"/>
              </a:rPr>
              <a:t>  </a:t>
            </a:r>
            <a:r>
              <a:rPr b="1" lang="en-US" sz="6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ǜ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28800" y="914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0880"/>
            <a:ext cx="3352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yūn    yú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yǔn    yù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581280"/>
            <a:ext cx="4114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yuān   yuá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yuǎn  yu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9144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y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038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yu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44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695680" cy="1839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7180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3657600"/>
            <a:ext cx="2924280" cy="2095560"/>
            <a:chOff x="0" y="3657600"/>
            <a:chExt cx="2924280" cy="2095560"/>
          </a:xfrm>
        </p:grpSpPr>
        <p:pic>
          <p:nvPicPr>
            <p:cNvPr id="127" name="球１" descr=""/>
            <p:cNvPicPr/>
            <p:nvPr/>
          </p:nvPicPr>
          <p:blipFill>
            <a:blip r:embed="rId3"/>
            <a:stretch/>
          </p:blipFill>
          <p:spPr>
            <a:xfrm>
              <a:off x="0" y="3657600"/>
              <a:ext cx="209556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篮球" descr=""/>
            <p:cNvPicPr/>
            <p:nvPr/>
          </p:nvPicPr>
          <p:blipFill>
            <a:blip r:embed="rId4"/>
            <a:stretch/>
          </p:blipFill>
          <p:spPr>
            <a:xfrm>
              <a:off x="1523880" y="4343400"/>
              <a:ext cx="1400400" cy="140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1:47:02Z</dcterms:created>
  <dc:creator/>
  <dc:description/>
  <cp:keywords/>
  <dc:language>en-US</dc:language>
  <cp:lastModifiedBy>微软用户</cp:lastModifiedBy>
  <dcterms:modified xsi:type="dcterms:W3CDTF">2014-02-18T12:09:08Z</dcterms:modified>
  <cp:revision>3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